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6DDE-72E5-4EAC-85B9-653B2B0B4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C6C3-C718-4A42-BD3A-34B308F83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B501-4ECF-48F1-B4A8-F8891CB68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CC02-7C37-4361-9CC5-F39D9E2F2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F142-4E12-4509-8D24-F233039B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A486-7B8F-4B53-958D-13DF4184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7797-AADE-4210-B3E7-55579467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886C-F5D0-4C1A-B04F-A0C0AF755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22C6-75CC-428C-8237-FDFC85F38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9863-68AF-43E3-AA99-6B4F563D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B1AA-B118-401D-BAC8-285BF97F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9EC6-6BAB-4169-B591-1EA00DCC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0550-5FE3-45FC-8AA7-F2100C2BB47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ahoma"/>
                <a:cs typeface="PT Bold Heading"/>
              </a:rPr>
              <a:t>الفصل الاو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ماهية التقارير المالي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والمستفيدون منها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PT Bold Heading"/>
              </a:rPr>
              <a:t>وأهداف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623736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741600" y="1333440"/>
            <a:ext cx="7660800" cy="1031400"/>
          </a:xfrm>
          <a:prstGeom prst="rect">
            <a:avLst/>
          </a:prstGeom>
          <a:solidFill>
            <a:srgbClr val="ebd1a1"/>
          </a:solidFill>
          <a:ln w="7632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هدف من التقارير الما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9080" y="3130920"/>
            <a:ext cx="7580160" cy="22510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اظهار نتيجة نشاط المنشأة والمركز المالي والتغيرات في المركز المالي بكل عدالة ووضوح في ضوء المبادئ المحاسبية المقبو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ea typeface="PT Bold Heading"/>
              </a:rPr>
              <a:t>  إمداد المستفيدين بمعلومات موثوق بها عن نشاط المنشأة ومركزها المال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2000" y="64612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771480"/>
            <a:ext cx="7772760" cy="9082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خصائص النوعية للمعلوم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975040" y="2421000"/>
            <a:ext cx="3181320" cy="386856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لائ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حق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دم التحي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ابلية للفه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وقي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قار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E84A-5B63-4568-BC65-55BC423FF586}" type="slidenum">
              <a:t>11</a:t>
            </a:fld>
          </a:p>
        </p:txBody>
      </p:sp>
    </p:spTree>
  </p:cSld>
  <p:transition>
    <p:random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764640"/>
            <a:ext cx="7772760" cy="120024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وامل المؤثرة على الهدف من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2320" y="2973240"/>
            <a:ext cx="5486400" cy="32641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نظمات المهن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جهات المشرفة على البورص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نظام الاقتصادي السائ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ضخ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دخل الحكوم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116C-795C-4B60-8F95-6C35AC92623F}" type="slidenum">
              <a:t>12</a:t>
            </a:fld>
          </a:p>
        </p:txBody>
      </p:sp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768960" y="1410480"/>
            <a:ext cx="7693200" cy="717840"/>
          </a:xfrm>
          <a:prstGeom prst="rect">
            <a:avLst/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حدود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4360" y="2637000"/>
            <a:ext cx="7775280" cy="357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cc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تكلفة التاريخ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مخصص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تعدد الطرق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توقي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عدم اشتمالها على بعض الأصول (الموارد البشري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r" rtl="1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لغة التي تعد على أساسها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 rtl="1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12000" y="64612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741600" y="1617480"/>
            <a:ext cx="7660800" cy="1031400"/>
          </a:xfrm>
          <a:prstGeom prst="rect">
            <a:avLst/>
          </a:prstGeom>
          <a:solidFill>
            <a:srgbClr val="eaeaea"/>
          </a:solidFill>
          <a:ln w="5724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هدف المقر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25400" y="3486960"/>
            <a:ext cx="7607520" cy="1764360"/>
          </a:xfrm>
          <a:prstGeom prst="rect">
            <a:avLst/>
          </a:prstGeom>
          <a:solidFill>
            <a:srgbClr val="eaeaea"/>
          </a:solidFill>
          <a:ln w="57240">
            <a:solidFill>
              <a:srgbClr val="0066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مكين الدارسين من التعرف على الأساليب العلمية المستخدمة في تحليل وتفسير القوائم المالية (التحليل المالي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67280" y="623736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18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2638440"/>
            <a:ext cx="7989840" cy="31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a7ff"/>
              </a:gs>
              <a:gs pos="50000">
                <a:srgbClr val="ffffff"/>
              </a:gs>
              <a:gs pos="100000">
                <a:srgbClr val="d3a7ff"/>
              </a:gs>
            </a:gsLst>
            <a:lin ang="5400000"/>
          </a:gra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 جزء لا يتجزأ من التقارير الما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عتبر القوائم المالية عصب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تقارير المالية أعم من القوائم المالية فهي تشمل التقارير المالية ومعلومات أخرى مالية وغير مالية مثل المعلومات عن النشاط التسويقي والإنتاجي للمنشأة وتقرير مجلس الإدارة وتقرير المراجع الخارجي ...ال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سئولية المراجع فقط عن القوائم المالية والملاحظات المرفقة ب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125360"/>
            <a:ext cx="7993080" cy="86364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ا الفرق بين التقارير المالية والقوائم المالي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B766-DBCE-4819-98DC-EE3A5EA0B6E3}" type="slidenum">
              <a:t>3</a:t>
            </a:fld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03640" y="2016000"/>
            <a:ext cx="3581640" cy="76536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0320" y="609120"/>
            <a:ext cx="7772400" cy="1143000"/>
          </a:xfrm>
          <a:prstGeom prst="rect">
            <a:avLst/>
          </a:prstGeom>
          <a:solidFill>
            <a:srgbClr val="ccccff"/>
          </a:solidFill>
          <a:ln w="7632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محتويات التقارير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67280" y="3105000"/>
            <a:ext cx="3529080" cy="82872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المراج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46360" y="4221000"/>
            <a:ext cx="3581280" cy="8668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مجلس الادا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5300640"/>
            <a:ext cx="4267440" cy="8380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تقرير الادارة التنفيذ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 rtl="1"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قوائم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623736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115920"/>
            <a:ext cx="42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7218-D0BE-429D-B5AB-EAF53F960ACC}" type="slidenum">
              <a:t>4</a:t>
            </a:fld>
          </a:p>
        </p:txBody>
      </p:sp>
    </p:spTree>
  </p:cSld>
  <p:transition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39280" y="549000"/>
            <a:ext cx="7993440" cy="690120"/>
          </a:xfrm>
          <a:prstGeom prst="rect">
            <a:avLst/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ولاً: القوائم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0200" y="2671560"/>
            <a:ext cx="3819600" cy="6490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فاهيم التي تؤثر على شكل ومحتوى القوائم الم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254560" y="2673360"/>
            <a:ext cx="3168720" cy="64944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ناصر القوائم ال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3836880"/>
            <a:ext cx="3166920" cy="23767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أصول (الموجودات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التزامات (المطلوبات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حقوق الملك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إيراد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صروف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صافي الدخ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3836880"/>
            <a:ext cx="1800360" cy="237672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r" rtl="1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دور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تحقق الإيرا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مقابل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وحدة المحاسب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قياس النقد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3838680"/>
            <a:ext cx="1873080" cy="239868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343080" indent="-343080" algn="r" rtl="1">
              <a:spcBef>
                <a:spcPts val="451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كلفة التاريخ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إفصاح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أهمية النسب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451"/>
              </a:spcBef>
              <a:buSzPct val="10281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660033"/>
                </a:solidFill>
                <a:latin typeface="Times New Roman"/>
                <a:cs typeface="PT Bold Heading"/>
              </a:rPr>
              <a:t>التحفظ (الحيطة والحذ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601640"/>
            <a:ext cx="7993080" cy="7192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 rtl="1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ctr" rtl="1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قائمة المركز المالي – قائمة الدخل – قائمة التدفقات النقدية – قائمة الأرباح المحتجز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32720" y="3429000"/>
            <a:ext cx="431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32000" y="342900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3429000"/>
            <a:ext cx="432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A8AF-45A9-4F10-9680-8B996295743B}" type="slidenum">
              <a:t>5</a:t>
            </a:fld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ثانياً: تقرير مراقب الحساب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نتيجة الفحص للقوائم المالية من حيث مدى دقة المعلومات التي تحتويها ومدى تمثيلها بصدق وعدالة للمركز المالي للمشروع ونتيجة نشاط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004D-1C3F-460C-9387-4B43DE606E30}" type="slidenum">
              <a:t>6</a:t>
            </a:fld>
          </a:p>
        </p:txBody>
      </p:sp>
    </p:spTree>
  </p:cSld>
  <p:transition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ثالثاً: تقرير مجلس الإدار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معلومات عامة عن المنشأة وأهدافها ومركزها المالي والتسويقي، ومعلومات عن الإنتاج ودرجة نمو المبيعات والأرباح والعوامل المؤثرة في نشاط المنشأة مستقبلا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ولا تخضع المعلومات الواردة فيه لمراجعة مراقب الحسابات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B0DB-C9D2-4CD9-804A-1EAAC77FB7E8}" type="slidenum">
              <a:t>7</a:t>
            </a:fld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74560" y="1268280"/>
            <a:ext cx="7993080" cy="1035360"/>
          </a:xfrm>
          <a:prstGeom prst="downArrowCallout">
            <a:avLst>
              <a:gd name="adj1" fmla="val -180360"/>
              <a:gd name="adj2" fmla="val 193002"/>
              <a:gd name="adj3" fmla="val 16667"/>
              <a:gd name="adj4" fmla="val 66667"/>
            </a:avLst>
          </a:prstGeom>
          <a:solidFill>
            <a:srgbClr val="eaeaea"/>
          </a:solidFill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رابعاً: تقرير الإدارة التنفيذ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4560" y="2708280"/>
            <a:ext cx="7993080" cy="266220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تضمن معلومات أكثر تفصيلاً من تقرير مجلس الإدارة، كالأصول والالتزامات وحقوق الملكية والتغيرات التي حدثت عليها خلال السنة المالية، ومعلومات عن العقود الجديدة وسياسة توزيع الأرباح والعاملين والخدمات المقدمة له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إلزامي في بعض الدول كبريطاني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2091-40AC-43F2-83B8-1158E21679FA}" type="slidenum">
              <a:t>8</a:t>
            </a:fld>
          </a:p>
        </p:txBody>
      </p:sp>
    </p:spTree>
  </p:cSld>
  <p:transition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704880"/>
            <a:ext cx="7772400" cy="1571760"/>
          </a:xfrm>
          <a:prstGeom prst="downArrowCallout">
            <a:avLst>
              <a:gd name="adj1" fmla="val -122318"/>
              <a:gd name="adj2" fmla="val 123626"/>
              <a:gd name="adj3" fmla="val 16667"/>
              <a:gd name="adj4" fmla="val 6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مستفيدون من التقارير ال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0360" y="64612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455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حسب :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	</a:t>
            </a:r>
            <a:r>
              <a:rPr b="1" lang="en-US" sz="2000" spc="-1" strike="noStrike">
                <a:solidFill>
                  <a:srgbClr val="09090d"/>
                </a:solidFill>
                <a:latin typeface="Times New Roman"/>
                <a:ea typeface="Andalus"/>
              </a:rPr>
              <a:t>  تحليل التقارير ال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0920" y="2492280"/>
            <a:ext cx="5040360" cy="352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bd1a1"/>
              </a:gs>
              <a:gs pos="50000">
                <a:srgbClr val="ffffff"/>
              </a:gs>
              <a:gs pos="100000">
                <a:srgbClr val="ebd1a1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إدارة المنشأ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لاك المنشأة والمستثمرون المحتمل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دائنو المنشأة والبنو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الجهات الحكوم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مراكز الدراسات والبحو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29240" y="115920"/>
            <a:ext cx="42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9090d"/>
                </a:solidFill>
                <a:latin typeface="Times New Roman"/>
                <a:cs typeface="Andalus"/>
              </a:rPr>
              <a:t>الفصل الأول: ماهية التقارير المالية والمستفيدون منه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262F-28A0-4F35-9C24-47A5AF6A1590}" type="slidenum">
              <a:t>9</a:t>
            </a:fld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8T10:54:15Z</dcterms:created>
  <dc:creator>**</dc:creator>
  <dc:description/>
  <dc:language>en-US</dc:language>
  <cp:lastModifiedBy>saeed dawas</cp:lastModifiedBy>
  <dcterms:modified xsi:type="dcterms:W3CDTF">2004-05-30T22:41:08Z</dcterms:modified>
  <cp:revision>21</cp:revision>
  <dc:subject/>
  <dc:title>التحليل المالي والائتماني</dc:title>
</cp:coreProperties>
</file>